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237663" cy="70421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79360" y="685440"/>
            <a:ext cx="4499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233-E56E-45D5-9F58-FF368BAF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98A-4197-47D5-86C5-9221E28C41C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7123-4D44-4018-801D-8EEF856DEF1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AE2-5BAF-4358-AE24-55216F6D9DC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554-4F61-416C-AB01-350D0B3498ED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DE6-8DFC-4F89-BE54-692A08EAACE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5D5-C24B-48C5-BB58-D0E9E456C1ED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679-7D9A-410E-8225-6EE22D14EF6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2B72-7A42-4D2E-85D2-95D7EFB73BA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48C-720E-4C0F-A4C9-09DF8C37C43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9360" y="685800"/>
            <a:ext cx="44992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8FF-0269-4A8D-AF29-E970399AF2C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EFD-D984-49ED-9A9F-E97657DB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8BB-B1CC-484E-A67D-F836EEC0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EEB-54D9-499F-B86C-07EFB02C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5C1-B125-4866-BA55-947E1E36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0284-200F-4479-99E2-643FA81D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73A1-CD42-471B-820B-A7CE38E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4DCB-CAA4-4582-B123-EF0DA4F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1751-7B62-4125-B1DE-CCB103DB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09D1-4A8D-4FBE-AE5B-E0EC78C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9096-8CD0-47D8-AE75-521EBA02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B9F-F05E-4D8B-A323-42246BB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684-BB71-4CDD-A5F6-7CC75ACC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EC8-4E45-4235-9EEF-CC09E1E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2BA-6046-42AA-81FA-979687E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695-DA32-4291-A6DD-9781088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BA2-CC35-42E4-AB76-DA981C25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A5FA-6B5C-43C4-9331-FB96F866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F6EB-F144-4C76-9A1E-33A324CA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5A3F-05BF-4300-BB6F-480C92F0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231A-34EF-47D2-A1A9-ABF1220F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4C04-3CBD-4DA4-A79D-E37EE3E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3B5C-2AEA-40EE-A2D2-B3488E7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AC5-2316-47BF-993D-03365972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C8DD-489C-4D03-97EF-E060EB7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AF7B-CAA1-430D-9BB2-1993606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E048-D3A3-45DD-9CEC-A3299B4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D3DE-0C4F-47D3-B6C3-3C08031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142C-E5D2-440C-AA20-3D08D7A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367F-2EFF-4AA5-B752-12F7A75E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5C4D-6C70-424C-86DD-D1DB6E8A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0A22-46ED-4F21-AD75-2A003CCD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1D6B-EA85-45A7-A2AC-03946C78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4F7B-729C-480D-A827-81E2299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F16-B2BA-4B39-9EE4-A073B32B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4ED3-45E2-46E7-9ACF-8E0945A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7CE8-C30A-4B3D-BAA9-389AD2E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0B32-F4D8-42F1-B8DA-E63B376F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4093-1050-4F1D-8D92-561388E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C660-8BCA-428A-9CC4-FC2BE30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205E-C8EC-4214-9E96-D95BDF16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A621-2A14-4AA0-831A-58BA990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5D53-E3B7-4B02-A339-E2386E3D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4984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4120" y="20718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9556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4984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04120" y="4278600"/>
            <a:ext cx="25275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1EDE-3275-4B8E-859B-F3E12A7F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E32-D0C4-4911-817D-676E1921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62080" y="220320"/>
            <a:ext cx="787248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452-F087-4631-A307-CD7AAD7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841-AA31-4F32-994F-A8B0009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18200" y="42786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72C-4EA5-4FA6-962D-D90B913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9556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8200" y="2071800"/>
            <a:ext cx="38307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95560" y="4278600"/>
            <a:ext cx="7850160" cy="2014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026-FF4A-4944-9BF0-FFDBD12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31880" y="1235160"/>
            <a:ext cx="426960" cy="48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60480" y="1158840"/>
            <a:ext cx="371520" cy="485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03280" y="1616040"/>
            <a:ext cx="830880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23400" y="6492600"/>
            <a:ext cx="1924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85800" y="6492600"/>
            <a:ext cx="29257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49720" y="6492600"/>
            <a:ext cx="1924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954D-A4AE-415F-8EDB-9E5ED2AC2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6120" y="1562040"/>
            <a:ext cx="426960" cy="48600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20880" y="1562040"/>
            <a:ext cx="371520" cy="48600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840" y="1828800"/>
            <a:ext cx="830880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056360" y="6571800"/>
            <a:ext cx="76536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-36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6B92-7959-4B31-B2D6-4F4A075DE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22280" y="1127160"/>
            <a:ext cx="441360" cy="487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8200" y="1127160"/>
            <a:ext cx="331560" cy="4874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31880" y="1235160"/>
            <a:ext cx="426960" cy="48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60480" y="1158840"/>
            <a:ext cx="371520" cy="485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8520" y="1486080"/>
            <a:ext cx="56520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70040" y="1017720"/>
            <a:ext cx="31680" cy="1079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03280" y="1616040"/>
            <a:ext cx="830880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-14760" bIns="-14760" anchor="ctr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2503440"/>
            <a:ext cx="9099360" cy="1080720"/>
            <a:chOff x="0" y="2503440"/>
            <a:chExt cx="9099360" cy="1080720"/>
          </a:xfrm>
        </p:grpSpPr>
        <p:grpSp>
          <p:nvGrpSpPr>
            <p:cNvPr id="104" name="Group 3"/>
            <p:cNvGrpSpPr/>
            <p:nvPr/>
          </p:nvGrpSpPr>
          <p:grpSpPr>
            <a:xfrm>
              <a:off x="296640" y="2614320"/>
              <a:ext cx="719280" cy="487440"/>
              <a:chOff x="296640" y="2614320"/>
              <a:chExt cx="719280" cy="48744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296640" y="2614320"/>
                <a:ext cx="442440" cy="487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684000" y="2614320"/>
                <a:ext cx="331920" cy="487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7" name="Group 6"/>
            <p:cNvGrpSpPr/>
            <p:nvPr/>
          </p:nvGrpSpPr>
          <p:grpSpPr>
            <a:xfrm>
              <a:off x="423000" y="3047760"/>
              <a:ext cx="743760" cy="487440"/>
              <a:chOff x="423000" y="3047760"/>
              <a:chExt cx="743760" cy="487440"/>
            </a:xfrm>
          </p:grpSpPr>
          <p:sp>
            <p:nvSpPr>
              <p:cNvPr id="108" name="Rectangle 7"/>
              <p:cNvSpPr/>
              <p:nvPr/>
            </p:nvSpPr>
            <p:spPr>
              <a:xfrm>
                <a:off x="423000" y="3047760"/>
                <a:ext cx="425160" cy="4874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93800" y="3047760"/>
                <a:ext cx="372960" cy="4874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0" name="Rectangle 9"/>
            <p:cNvSpPr/>
            <p:nvPr/>
          </p:nvSpPr>
          <p:spPr>
            <a:xfrm>
              <a:off x="0" y="2972880"/>
              <a:ext cx="565920" cy="4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641160" y="2503440"/>
              <a:ext cx="31680" cy="10807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 flipV="1">
              <a:off x="318960" y="3347640"/>
              <a:ext cx="8780400" cy="568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999720" y="6414840"/>
            <a:ext cx="19242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463560" y="6414840"/>
            <a:ext cx="292428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927480" y="6414840"/>
            <a:ext cx="192420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6EAC-1801-4029-823F-2B7A62704CC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2503440"/>
            <a:ext cx="9099360" cy="1080720"/>
            <a:chOff x="0" y="2503440"/>
            <a:chExt cx="9099360" cy="1080720"/>
          </a:xfrm>
        </p:grpSpPr>
        <p:grpSp>
          <p:nvGrpSpPr>
            <p:cNvPr id="155" name="Group 3"/>
            <p:cNvGrpSpPr/>
            <p:nvPr/>
          </p:nvGrpSpPr>
          <p:grpSpPr>
            <a:xfrm>
              <a:off x="296640" y="2614320"/>
              <a:ext cx="719280" cy="487440"/>
              <a:chOff x="296640" y="2614320"/>
              <a:chExt cx="719280" cy="487440"/>
            </a:xfrm>
          </p:grpSpPr>
          <p:sp>
            <p:nvSpPr>
              <p:cNvPr id="156" name="Rectangle 4"/>
              <p:cNvSpPr/>
              <p:nvPr/>
            </p:nvSpPr>
            <p:spPr>
              <a:xfrm>
                <a:off x="296640" y="2614320"/>
                <a:ext cx="442440" cy="4874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5"/>
              <p:cNvSpPr/>
              <p:nvPr/>
            </p:nvSpPr>
            <p:spPr>
              <a:xfrm>
                <a:off x="684000" y="2614320"/>
                <a:ext cx="331920" cy="4874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6"/>
            <p:cNvGrpSpPr/>
            <p:nvPr/>
          </p:nvGrpSpPr>
          <p:grpSpPr>
            <a:xfrm>
              <a:off x="423000" y="3047760"/>
              <a:ext cx="743760" cy="487440"/>
              <a:chOff x="423000" y="3047760"/>
              <a:chExt cx="743760" cy="487440"/>
            </a:xfrm>
          </p:grpSpPr>
          <p:sp>
            <p:nvSpPr>
              <p:cNvPr id="159" name="Rectangle 7"/>
              <p:cNvSpPr/>
              <p:nvPr/>
            </p:nvSpPr>
            <p:spPr>
              <a:xfrm>
                <a:off x="423000" y="3047760"/>
                <a:ext cx="425160" cy="4874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8"/>
              <p:cNvSpPr/>
              <p:nvPr/>
            </p:nvSpPr>
            <p:spPr>
              <a:xfrm>
                <a:off x="793800" y="3047760"/>
                <a:ext cx="372960" cy="4874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1" name="Rectangle 9"/>
            <p:cNvSpPr/>
            <p:nvPr/>
          </p:nvSpPr>
          <p:spPr>
            <a:xfrm>
              <a:off x="0" y="2972880"/>
              <a:ext cx="565920" cy="4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641160" y="2503440"/>
              <a:ext cx="31680" cy="1080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 flipV="1">
              <a:off x="318960" y="3347640"/>
              <a:ext cx="8780400" cy="56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62080" y="220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95560" y="2071800"/>
            <a:ext cx="7850160" cy="42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345600" indent="-345600">
              <a:spcBef>
                <a:spcPts val="8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8080" indent="-287280">
              <a:spcBef>
                <a:spcPts val="825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150200" indent="-229320">
              <a:spcBef>
                <a:spcPts val="825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610640" indent="-229320">
              <a:spcBef>
                <a:spcPts val="825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071080" indent="-229320">
              <a:spcBef>
                <a:spcPts val="825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071080" indent="-229320"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980400" y="6571800"/>
            <a:ext cx="744480" cy="46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-360" y="6567480"/>
            <a:ext cx="5684760" cy="473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275680" y="664380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6E7-791C-4770-B217-B0657545C14A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1520" y="1720800"/>
            <a:ext cx="8504280" cy="1501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ffective Training: Systems, Strategies, and Practices, 4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Edi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08200" y="3900240"/>
            <a:ext cx="7696080" cy="163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ahoma"/>
              </a:rPr>
              <a:t>Chapter Eleve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. Nick Blanchard and James W. Tha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275680" y="6643800"/>
            <a:ext cx="96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11-</a:t>
            </a:r>
            <a:fld id="{C3542316-9732-4757-90A2-B99C91359750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567480"/>
            <a:ext cx="5684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5A2A6A4E-61C1-48A5-B888-CB0783B3E2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2400" y="700200"/>
            <a:ext cx="8123400" cy="1218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79600" y="2452680"/>
          <a:ext cx="8275320" cy="3483000"/>
        </p:xfrm>
        <a:graphic>
          <a:graphicData uri="http://schemas.openxmlformats.org/drawingml/2006/table">
            <a:tbl>
              <a:tblPr/>
              <a:tblGrid>
                <a:gridCol w="1855800"/>
                <a:gridCol w="3403440"/>
                <a:gridCol w="3016080"/>
              </a:tblGrid>
              <a:tr h="40500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Trait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ility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 mot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C7A1BDBD-E14E-4061-95BE-0D7A455905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8720" y="471240"/>
            <a:ext cx="8047080" cy="1447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55560" y="2376360"/>
          <a:ext cx="8002800" cy="4038840"/>
        </p:xfrm>
        <a:graphic>
          <a:graphicData uri="http://schemas.openxmlformats.org/drawingml/2006/table">
            <a:tbl>
              <a:tblPr/>
              <a:tblGrid>
                <a:gridCol w="1795680"/>
                <a:gridCol w="3289320"/>
                <a:gridCol w="2917800"/>
              </a:tblGrid>
              <a:tr h="5335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Styl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tiv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ive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differenc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difference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-ment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ctive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0" y="6492960"/>
            <a:ext cx="5761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8280360" y="6570720"/>
            <a:ext cx="955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8DD3D4A5-9815-4A5F-96D0-EBA838622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3680" y="396720"/>
            <a:ext cx="7872480" cy="1175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262673"/>
                </a:solidFill>
                <a:latin typeface="Tahoma"/>
              </a:rPr>
              <a:t>Mintzberg’s Managerial Role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533520" y="1919160"/>
            <a:ext cx="8046720" cy="4586040"/>
            <a:chOff x="533520" y="1919160"/>
            <a:chExt cx="8046720" cy="4586040"/>
          </a:xfrm>
        </p:grpSpPr>
        <p:sp>
          <p:nvSpPr>
            <p:cNvPr id="220" name="Text Box 4"/>
            <p:cNvSpPr/>
            <p:nvPr/>
          </p:nvSpPr>
          <p:spPr>
            <a:xfrm>
              <a:off x="533520" y="4205880"/>
              <a:ext cx="1917720" cy="22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personal 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gurehead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aiso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3410280" y="4205880"/>
              <a:ext cx="1919520" cy="16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semin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kesperso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5990040" y="4205880"/>
              <a:ext cx="2590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isional 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repreneu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turbance Handle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ource Alloc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gotiator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2343240" y="1919160"/>
              <a:ext cx="41349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Formal Authority and Statu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4368960" y="2319840"/>
              <a:ext cx="19440" cy="173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4636440" y="2319840"/>
              <a:ext cx="2496240" cy="18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H="1">
              <a:off x="1798200" y="2319840"/>
              <a:ext cx="2287800" cy="18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E42F0277-1BCB-41B7-A79D-D6D8498DE0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62080" y="623880"/>
            <a:ext cx="7872480" cy="129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br>
              <a:rPr sz="34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31880" y="2071800"/>
          <a:ext cx="8113680" cy="504720"/>
        </p:xfrm>
        <a:graphic>
          <a:graphicData uri="http://schemas.openxmlformats.org/drawingml/2006/table">
            <a:tbl>
              <a:tblPr/>
              <a:tblGrid>
                <a:gridCol w="2832120"/>
                <a:gridCol w="5281560"/>
              </a:tblGrid>
              <a:tr h="5047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l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ctivit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31880" y="2604960"/>
          <a:ext cx="8113680" cy="595440"/>
        </p:xfrm>
        <a:graphic>
          <a:graphicData uri="http://schemas.openxmlformats.org/drawingml/2006/table">
            <a:tbl>
              <a:tblPr/>
              <a:tblGrid>
                <a:gridCol w="2751120"/>
                <a:gridCol w="5362560"/>
              </a:tblGrid>
              <a:tr h="595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5560" y="3138480"/>
          <a:ext cx="8075520" cy="1006560"/>
        </p:xfrm>
        <a:graphic>
          <a:graphicData uri="http://schemas.openxmlformats.org/drawingml/2006/table">
            <a:tbl>
              <a:tblPr/>
              <a:tblGrid>
                <a:gridCol w="2210040"/>
                <a:gridCol w="5865480"/>
              </a:tblGrid>
              <a:tr h="1006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igurehead  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ets the routine, obligatory, social, and legal duties required of the head of a unit. (e.g. attendance at social functions, meeting with politicians, buyers, or suppliers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55560" y="4357800"/>
          <a:ext cx="8312400" cy="657000"/>
        </p:xfrm>
        <a:graphic>
          <a:graphicData uri="http://schemas.openxmlformats.org/drawingml/2006/table">
            <a:tbl>
              <a:tblPr/>
              <a:tblGrid>
                <a:gridCol w="2152800"/>
                <a:gridCol w="6159600"/>
              </a:tblGrid>
              <a:tr h="6570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eader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ains, develops, and motivates the human resources necessary to meet the needs of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55560" y="5272200"/>
          <a:ext cx="8158320" cy="93816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9381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iais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s and maintains a network of individuals outside the unit in order to acquire information and action of benefit to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Straight Connector 10"/>
          <p:cNvSpPr/>
          <p:nvPr/>
        </p:nvSpPr>
        <p:spPr>
          <a:xfrm>
            <a:off x="2408400" y="214776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655560" y="42814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traight Connector 14"/>
          <p:cNvSpPr/>
          <p:nvPr/>
        </p:nvSpPr>
        <p:spPr>
          <a:xfrm>
            <a:off x="655560" y="5195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traight Connector 16"/>
          <p:cNvSpPr/>
          <p:nvPr/>
        </p:nvSpPr>
        <p:spPr>
          <a:xfrm>
            <a:off x="351000" y="2986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3D0C66D0-B99E-4520-84ED-3AD1F4EDF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62080" y="547560"/>
            <a:ext cx="7872480" cy="1371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533520" y="2071800"/>
            <a:ext cx="8159760" cy="620640"/>
            <a:chOff x="533520" y="2071800"/>
            <a:chExt cx="8159760" cy="620640"/>
          </a:xfrm>
        </p:grpSpPr>
        <p:sp>
          <p:nvSpPr>
            <p:cNvPr id="243" name="Rectangle 4"/>
            <p:cNvSpPr/>
            <p:nvPr/>
          </p:nvSpPr>
          <p:spPr>
            <a:xfrm>
              <a:off x="3703680" y="2071800"/>
              <a:ext cx="49881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23184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ctiviti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808200" y="2071800"/>
              <a:ext cx="2573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23184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Rol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6"/>
            <p:cNvSpPr/>
            <p:nvPr/>
          </p:nvSpPr>
          <p:spPr>
            <a:xfrm>
              <a:off x="533520" y="2071800"/>
              <a:ext cx="28479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533520" y="2591280"/>
              <a:ext cx="284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33520" y="2071800"/>
              <a:ext cx="1440" cy="62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8691840" y="2071800"/>
              <a:ext cx="1440" cy="62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3381480" y="2071800"/>
              <a:ext cx="53103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3381480" y="2591280"/>
              <a:ext cx="5310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884160" y="2589120"/>
          <a:ext cx="7890120" cy="352440"/>
        </p:xfrm>
        <a:graphic>
          <a:graphicData uri="http://schemas.openxmlformats.org/drawingml/2006/table">
            <a:tbl>
              <a:tblPr/>
              <a:tblGrid>
                <a:gridCol w="2754360"/>
                <a:gridCol w="5135760"/>
              </a:tblGrid>
              <a:tr h="352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808200" y="3062160"/>
          <a:ext cx="8119800" cy="1143000"/>
        </p:xfrm>
        <a:graphic>
          <a:graphicData uri="http://schemas.openxmlformats.org/drawingml/2006/table">
            <a:tbl>
              <a:tblPr/>
              <a:tblGrid>
                <a:gridCol w="1752480"/>
                <a:gridCol w="6367320"/>
              </a:tblGrid>
              <a:tr h="11430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oni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es for and acquires information about the unit and its environment so that the manager becomes an information center for the unit and the organization; derives from liaison and leader roles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70040" y="4281480"/>
          <a:ext cx="8157960" cy="990720"/>
        </p:xfrm>
        <a:graphic>
          <a:graphicData uri="http://schemas.openxmlformats.org/drawingml/2006/table">
            <a:tbl>
              <a:tblPr/>
              <a:tblGrid>
                <a:gridCol w="1790640"/>
                <a:gridCol w="6367320"/>
              </a:tblGrid>
              <a:tr h="9907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issemin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es selected information to others within the unit or organization, some of which has been transformed through integration with other inform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70040" y="5397480"/>
          <a:ext cx="8157960" cy="939960"/>
        </p:xfrm>
        <a:graphic>
          <a:graphicData uri="http://schemas.openxmlformats.org/drawingml/2006/table">
            <a:tbl>
              <a:tblPr/>
              <a:tblGrid>
                <a:gridCol w="1790640"/>
                <a:gridCol w="6367320"/>
              </a:tblGrid>
              <a:tr h="9399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pokespers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ing selected information to others outside the unit regarding plans, values, activities, and other elements of the unit and conveys the appropriate image of the unit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Straight Connector 18"/>
          <p:cNvSpPr/>
          <p:nvPr/>
        </p:nvSpPr>
        <p:spPr>
          <a:xfrm>
            <a:off x="351000" y="29862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20"/>
          <p:cNvSpPr/>
          <p:nvPr/>
        </p:nvSpPr>
        <p:spPr>
          <a:xfrm>
            <a:off x="731880" y="42814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22"/>
          <p:cNvSpPr/>
          <p:nvPr/>
        </p:nvSpPr>
        <p:spPr>
          <a:xfrm>
            <a:off x="731880" y="52722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24"/>
          <p:cNvSpPr/>
          <p:nvPr/>
        </p:nvSpPr>
        <p:spPr>
          <a:xfrm>
            <a:off x="2484360" y="214776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E3F7E215-1CCA-43FB-AA84-4814942F3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2400" y="700200"/>
            <a:ext cx="7921800" cy="1218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Description of Managerial Role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2071800"/>
          <a:ext cx="8159760" cy="428400"/>
        </p:xfrm>
        <a:graphic>
          <a:graphicData uri="http://schemas.openxmlformats.org/drawingml/2006/table">
            <a:tbl>
              <a:tblPr/>
              <a:tblGrid>
                <a:gridCol w="3094200"/>
                <a:gridCol w="5065560"/>
              </a:tblGrid>
              <a:tr h="4284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l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ctiviti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884160" y="2529000"/>
          <a:ext cx="7931160" cy="352440"/>
        </p:xfrm>
        <a:graphic>
          <a:graphicData uri="http://schemas.openxmlformats.org/drawingml/2006/table">
            <a:tbl>
              <a:tblPr/>
              <a:tblGrid>
                <a:gridCol w="2414520"/>
                <a:gridCol w="5516640"/>
              </a:tblGrid>
              <a:tr h="352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a</a:t>
                      </a:r>
                      <a:r>
                        <a:rPr b="1" i="1" lang="en-US" sz="1700" spc="-1" strike="noStrike">
                          <a:solidFill>
                            <a:srgbClr val="008e69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55560" y="2987640"/>
          <a:ext cx="8158320" cy="138924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13892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preneu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s and proactively develops the unit to take advantage of existing opportunities or meet anticipated threats in the environment.; acts based on inferences and conclusions drawn from the evaluation and integration of information gathered in the monitor role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25320" y="4433760"/>
          <a:ext cx="8158320" cy="78768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7876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urbance handler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ts to meet the immediate demands of the unit. (e.g. a wildcat strike, loss of a major customer)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55560" y="5197320"/>
          <a:ext cx="8158320" cy="61128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6112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 alloca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s and chooses among proposals; integrates and authorizes activities and resource utiliz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55560" y="5958000"/>
          <a:ext cx="8158320" cy="610920"/>
        </p:xfrm>
        <a:graphic>
          <a:graphicData uri="http://schemas.openxmlformats.org/drawingml/2006/table">
            <a:tbl>
              <a:tblPr/>
              <a:tblGrid>
                <a:gridCol w="2154240"/>
                <a:gridCol w="6004080"/>
              </a:tblGrid>
              <a:tr h="611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otiator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23184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gains to acquire the resources to meet the needs of the unit and organization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Straight Connector 11"/>
          <p:cNvSpPr/>
          <p:nvPr/>
        </p:nvSpPr>
        <p:spPr>
          <a:xfrm>
            <a:off x="2712960" y="222408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traight Connector 13"/>
          <p:cNvSpPr/>
          <p:nvPr/>
        </p:nvSpPr>
        <p:spPr>
          <a:xfrm>
            <a:off x="274680" y="29862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traight Connector 15"/>
          <p:cNvSpPr/>
          <p:nvPr/>
        </p:nvSpPr>
        <p:spPr>
          <a:xfrm>
            <a:off x="655560" y="44337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traight Connector 17"/>
          <p:cNvSpPr/>
          <p:nvPr/>
        </p:nvSpPr>
        <p:spPr>
          <a:xfrm>
            <a:off x="655560" y="5043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traight Connector 19"/>
          <p:cNvSpPr/>
          <p:nvPr/>
        </p:nvSpPr>
        <p:spPr>
          <a:xfrm>
            <a:off x="655560" y="58816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81437A20-6943-48CA-936C-67C722A3D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2080" y="623880"/>
            <a:ext cx="7872480" cy="129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Strategy, Technology, and Structure Integr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1880" y="2425680"/>
          <a:ext cx="8236080" cy="2894040"/>
        </p:xfrm>
        <a:graphic>
          <a:graphicData uri="http://schemas.openxmlformats.org/drawingml/2006/table">
            <a:tbl>
              <a:tblPr/>
              <a:tblGrid>
                <a:gridCol w="2924280"/>
                <a:gridCol w="2771640"/>
                <a:gridCol w="2540160"/>
              </a:tblGrid>
              <a:tr h="647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olog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Routin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in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-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Organic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Mechanistic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cture-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sion   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ing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Decentralized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76b74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  <a:ea typeface="Arial"/>
                        </a:rPr>
                        <a:t>Centralized</a:t>
                      </a:r>
                      <a:r>
                        <a:rPr b="1" lang="en-US" sz="1900" spc="-1" strike="noStrike">
                          <a:solidFill>
                            <a:srgbClr val="008e69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E9E9A8AA-F2EC-4E0D-92CF-8A802CB40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4160" y="469440"/>
            <a:ext cx="7872480" cy="14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Managerial Roles and Associated Management Characteristic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Part 1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1996920"/>
          <a:ext cx="8080560" cy="2463840"/>
        </p:xfrm>
        <a:graphic>
          <a:graphicData uri="http://schemas.openxmlformats.org/drawingml/2006/table">
            <a:tbl>
              <a:tblPr/>
              <a:tblGrid>
                <a:gridCol w="2297160"/>
                <a:gridCol w="1506600"/>
                <a:gridCol w="1301760"/>
                <a:gridCol w="1752480"/>
                <a:gridCol w="1222560"/>
              </a:tblGrid>
              <a:tr h="454320">
                <a:tc gridSpan="4"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ledge and Skill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t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ial Role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2880" rIns="92880" tIns="46440" bIns="46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terpers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ehead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1448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is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09480" y="4995720"/>
          <a:ext cx="8077320" cy="113220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1447920"/>
                <a:gridCol w="1676160"/>
                <a:gridCol w="12193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semin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spers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67"/>
          <p:cNvSpPr/>
          <p:nvPr/>
        </p:nvSpPr>
        <p:spPr>
          <a:xfrm>
            <a:off x="609480" y="46623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tiona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Straight Connector 8"/>
          <p:cNvSpPr/>
          <p:nvPr/>
        </p:nvSpPr>
        <p:spPr>
          <a:xfrm>
            <a:off x="655560" y="2757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D12FA232-6C0E-45A6-9A6B-02533C929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8720" y="396720"/>
            <a:ext cx="8047080" cy="1524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Managerial Roles and Associated Management Characteristics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Part 2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2057400"/>
          <a:ext cx="8543880" cy="3349800"/>
        </p:xfrm>
        <a:graphic>
          <a:graphicData uri="http://schemas.openxmlformats.org/drawingml/2006/table">
            <a:tbl>
              <a:tblPr/>
              <a:tblGrid>
                <a:gridCol w="2430720"/>
                <a:gridCol w="1590480"/>
                <a:gridCol w="1508040"/>
                <a:gridCol w="1843200"/>
                <a:gridCol w="1171440"/>
              </a:tblGrid>
              <a:tr h="363600">
                <a:tc gridSpan="4"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ledge and Skill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i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ait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agerial Role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cisi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preneu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urbance  handle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 alloc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otiato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2880" marR="9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Straight Connector 6"/>
          <p:cNvSpPr/>
          <p:nvPr/>
        </p:nvSpPr>
        <p:spPr>
          <a:xfrm>
            <a:off x="426960" y="27576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0" y="6643800"/>
            <a:ext cx="568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© 2010 Pearson Education, Inc. Publishing as Prentice Hall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245440" y="66438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-</a:t>
            </a:r>
            <a:fld id="{E86CC97A-BF71-4F68-8EF1-E49A24B8D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8720" y="471240"/>
            <a:ext cx="8047080" cy="1447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Strategy—Managerial Characteristics Integration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 –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79600" y="2529000"/>
          <a:ext cx="8159760" cy="3276360"/>
        </p:xfrm>
        <a:graphic>
          <a:graphicData uri="http://schemas.openxmlformats.org/drawingml/2006/table">
            <a:tbl>
              <a:tblPr/>
              <a:tblGrid>
                <a:gridCol w="2052360"/>
                <a:gridCol w="3105360"/>
                <a:gridCol w="3002040"/>
              </a:tblGrid>
              <a:tr h="46332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CA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Market Leader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  <a:ea typeface="Arial"/>
                        </a:rPr>
                        <a:t>Cost Leader</a:t>
                      </a: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Skill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3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e sophisticated and nonroutine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s sophisticated and routine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erson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692280"/>
                          <a:tab algn="l" pos="1384200"/>
                          <a:tab algn="l" pos="2076480"/>
                          <a:tab algn="l" pos="2768760"/>
                          <a:tab algn="l" pos="3460680"/>
                          <a:tab algn="l" pos="4152960"/>
                          <a:tab algn="l" pos="4844880"/>
                          <a:tab algn="l" pos="5537160"/>
                          <a:tab algn="l" pos="6229440"/>
                          <a:tab algn="l" pos="6921360"/>
                          <a:tab algn="l" pos="7613640"/>
                          <a:tab algn="l" pos="8305920"/>
                          <a:tab algn="l" pos="8997840"/>
                          <a:tab algn="l" pos="9690120"/>
                          <a:tab algn="l" pos="10382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ual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30240"/>
                          <a:tab algn="l" pos="1860480"/>
                          <a:tab algn="l" pos="2790720"/>
                          <a:tab algn="l" pos="3720960"/>
                          <a:tab algn="l" pos="4651200"/>
                          <a:tab algn="l" pos="5581800"/>
                          <a:tab algn="l" pos="6512040"/>
                          <a:tab algn="l" pos="7442280"/>
                          <a:tab algn="l" pos="8372520"/>
                          <a:tab algn="l" pos="9302760"/>
                          <a:tab algn="l" pos="102330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23T04:33:06Z</dcterms:modified>
  <cp:revision>100</cp:revision>
  <dc:subject/>
  <dc:title>No Trait and Treatment Interaction</dc:title>
</cp:coreProperties>
</file>